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E38F-8040-4276-8422-588BCFA4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CBE1-AD62-4A8A-AFFA-3E09FAA3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00D1-B9CF-441B-82B7-93E01D9A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DB59-944A-49DE-9860-BBD15837F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04D-1ADE-4EC6-B166-2DE1E256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8C4-C1E4-4654-93ED-29EC4476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0D6-0814-425A-BEE8-A559792D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1BEB-41BE-4C3E-B5C9-B8361B9E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932C-90AC-456E-9BEB-839481CC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1B5-3EC7-4469-98A5-AF58559A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9FCC-2EAC-47AB-8427-BB4928A0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E1D-9DAE-49A3-8290-60F4822F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42AA-7060-40AF-B0EA-B0EDAB6C511E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413000"/>
            <a:ext cx="8642160" cy="1666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Numere naturale de la 0 la 1000</a:t>
            </a:r>
            <a:br>
              <a:rPr sz="4800"/>
            </a:br>
            <a:r>
              <a:rPr b="1" lang="ro-RO" sz="4800" spc="-1" strike="noStrike">
                <a:solidFill>
                  <a:srgbClr val="ff0066"/>
                </a:solidFill>
                <a:latin typeface="Times New Roman"/>
              </a:rPr>
              <a:t>recapitulare final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187280" y="3573360"/>
            <a:ext cx="6696360" cy="400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3333cc"/>
                </a:solidFill>
                <a:latin typeface="Times New Roman"/>
              </a:rPr>
              <a:t>Fiecare fluture are un numă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2" descr="I0000013"/>
          <p:cNvPicPr/>
          <p:nvPr/>
        </p:nvPicPr>
        <p:blipFill>
          <a:blip r:embed="rId1"/>
          <a:stretch/>
        </p:blipFill>
        <p:spPr>
          <a:xfrm>
            <a:off x="684360" y="1884240"/>
            <a:ext cx="2016000" cy="14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I0000013"/>
          <p:cNvPicPr/>
          <p:nvPr/>
        </p:nvPicPr>
        <p:blipFill>
          <a:blip r:embed="rId2"/>
          <a:stretch/>
        </p:blipFill>
        <p:spPr>
          <a:xfrm>
            <a:off x="2771640" y="2133720"/>
            <a:ext cx="2016360" cy="1224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I0000013"/>
          <p:cNvPicPr/>
          <p:nvPr/>
        </p:nvPicPr>
        <p:blipFill>
          <a:blip r:embed="rId3"/>
          <a:stretch/>
        </p:blipFill>
        <p:spPr>
          <a:xfrm>
            <a:off x="7020000" y="1773360"/>
            <a:ext cx="2124000" cy="1655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 rot="19781400">
            <a:off x="756000" y="765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3300"/>
                </a:solidFill>
                <a:latin typeface="Times New Roman"/>
              </a:rPr>
              <a:t>36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" descr="I0000013"/>
          <p:cNvPicPr/>
          <p:nvPr/>
        </p:nvPicPr>
        <p:blipFill>
          <a:blip r:embed="rId4"/>
          <a:stretch/>
        </p:blipFill>
        <p:spPr>
          <a:xfrm>
            <a:off x="4859280" y="1828800"/>
            <a:ext cx="1944720" cy="1476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I0000013"/>
          <p:cNvPicPr/>
          <p:nvPr/>
        </p:nvPicPr>
        <p:blipFill>
          <a:blip r:embed="rId5"/>
          <a:stretch/>
        </p:blipFill>
        <p:spPr>
          <a:xfrm>
            <a:off x="179280" y="600120"/>
            <a:ext cx="1944720" cy="1244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I0000013"/>
          <p:cNvPicPr/>
          <p:nvPr/>
        </p:nvPicPr>
        <p:blipFill>
          <a:blip r:embed="rId6"/>
          <a:stretch/>
        </p:blipFill>
        <p:spPr>
          <a:xfrm>
            <a:off x="2411280" y="620640"/>
            <a:ext cx="1944720" cy="132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0" descr="I0000013"/>
          <p:cNvPicPr/>
          <p:nvPr/>
        </p:nvPicPr>
        <p:blipFill>
          <a:blip r:embed="rId7"/>
          <a:stretch/>
        </p:blipFill>
        <p:spPr>
          <a:xfrm>
            <a:off x="6443640" y="461880"/>
            <a:ext cx="2089080" cy="1238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1" descr="I0000013"/>
          <p:cNvPicPr/>
          <p:nvPr/>
        </p:nvPicPr>
        <p:blipFill>
          <a:blip r:embed="rId8"/>
          <a:stretch/>
        </p:blipFill>
        <p:spPr>
          <a:xfrm>
            <a:off x="4427640" y="476280"/>
            <a:ext cx="2016000" cy="1370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2"/>
          <p:cNvSpPr/>
          <p:nvPr/>
        </p:nvSpPr>
        <p:spPr>
          <a:xfrm rot="19416600">
            <a:off x="611640" y="691920"/>
            <a:ext cx="97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36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3"/>
          <p:cNvSpPr/>
          <p:nvPr/>
        </p:nvSpPr>
        <p:spPr>
          <a:xfrm rot="20133000">
            <a:off x="2843640" y="69192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ff00"/>
                </a:solidFill>
                <a:latin typeface="Times New Roman"/>
              </a:rPr>
              <a:t>5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 rot="18648000">
            <a:off x="4882680" y="59796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ff00"/>
                </a:solidFill>
                <a:latin typeface="Times New Roman"/>
              </a:rPr>
              <a:t>19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7"/>
          <p:cNvSpPr/>
          <p:nvPr/>
        </p:nvSpPr>
        <p:spPr>
          <a:xfrm rot="19905600">
            <a:off x="7020360" y="475920"/>
            <a:ext cx="113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7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8"/>
          <p:cNvSpPr/>
          <p:nvPr/>
        </p:nvSpPr>
        <p:spPr>
          <a:xfrm rot="19249200">
            <a:off x="1188000" y="198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5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9"/>
          <p:cNvSpPr/>
          <p:nvPr/>
        </p:nvSpPr>
        <p:spPr>
          <a:xfrm rot="19257600">
            <a:off x="3348720" y="1988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0"/>
          <p:cNvSpPr/>
          <p:nvPr/>
        </p:nvSpPr>
        <p:spPr>
          <a:xfrm rot="19703400">
            <a:off x="5293080" y="191592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95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1"/>
          <p:cNvSpPr/>
          <p:nvPr/>
        </p:nvSpPr>
        <p:spPr>
          <a:xfrm rot="19336800">
            <a:off x="7668360" y="19159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66ff33"/>
                </a:solidFill>
                <a:latin typeface="Times New Roman"/>
              </a:rPr>
              <a:t>54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2"/>
          <p:cNvSpPr/>
          <p:nvPr/>
        </p:nvSpPr>
        <p:spPr>
          <a:xfrm>
            <a:off x="324000" y="3573360"/>
            <a:ext cx="8496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ff"/>
                </a:solidFill>
                <a:latin typeface="Times New Roman"/>
              </a:rPr>
              <a:t>Scrie 3 numere consecutiv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3"/>
          <p:cNvSpPr/>
          <p:nvPr/>
        </p:nvSpPr>
        <p:spPr>
          <a:xfrm>
            <a:off x="324000" y="4149720"/>
            <a:ext cx="8496000" cy="116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3333cc"/>
                </a:solidFill>
                <a:latin typeface="Times New Roman"/>
              </a:rPr>
              <a:t>Scrie numerele impare în ordine descrescătoare: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4"/>
          <p:cNvSpPr/>
          <p:nvPr/>
        </p:nvSpPr>
        <p:spPr>
          <a:xfrm>
            <a:off x="324000" y="5373720"/>
            <a:ext cx="8569080" cy="94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6600ff"/>
                </a:solidFill>
                <a:latin typeface="Times New Roman"/>
              </a:rPr>
              <a:t>Scrie numerele care au cifra sutelor cu 4 mai mare decât cifra zecil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15"/>
          <p:cNvSpPr/>
          <p:nvPr/>
        </p:nvSpPr>
        <p:spPr>
          <a:xfrm rot="19915200">
            <a:off x="1618920" y="1699920"/>
            <a:ext cx="1224000" cy="8398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6"/>
          <p:cNvSpPr/>
          <p:nvPr/>
        </p:nvSpPr>
        <p:spPr>
          <a:xfrm rot="14346000">
            <a:off x="1416600" y="2696400"/>
            <a:ext cx="1144800" cy="882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Oval 17"/>
          <p:cNvSpPr/>
          <p:nvPr/>
        </p:nvSpPr>
        <p:spPr>
          <a:xfrm rot="19915200">
            <a:off x="324000" y="2707920"/>
            <a:ext cx="1171440" cy="826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18"/>
          <p:cNvSpPr/>
          <p:nvPr/>
        </p:nvSpPr>
        <p:spPr>
          <a:xfrm rot="13386000">
            <a:off x="468000" y="1628280"/>
            <a:ext cx="1197000" cy="935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9"/>
          <p:cNvSpPr/>
          <p:nvPr/>
        </p:nvSpPr>
        <p:spPr>
          <a:xfrm>
            <a:off x="1258920" y="2349360"/>
            <a:ext cx="576360" cy="503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4716360" y="2133720"/>
            <a:ext cx="3384720" cy="1008000"/>
          </a:xfrm>
          <a:custGeom>
            <a:avLst/>
            <a:gdLst>
              <a:gd name="textAreaLeft" fmla="*/ 1136160 w 3384720"/>
              <a:gd name="textAreaRight" fmla="*/ 2248560 w 3384720"/>
              <a:gd name="textAreaTop" fmla="*/ 12600 h 1008000"/>
              <a:gd name="textAreaBottom" fmla="*/ 7560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1297792"/>
                <a:lnTo>
                  <a:pt x="7252" y="274"/>
                </a:lnTo>
                <a:arcTo wR="21600" hR="20153" stAng="-6007164" swAng="1214328"/>
                <a:lnTo>
                  <a:pt x="14348" y="2974"/>
                </a:lnTo>
                <a:arcTo wR="21600" hR="20153" stAng="-4792836" swAng="1297792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760277"/>
                <a:lnTo>
                  <a:pt x="11648" y="16216"/>
                </a:lnTo>
                <a:arcTo wR="21600" hR="20153" stAng="-5255321" swAng="-289359"/>
                <a:lnTo>
                  <a:pt x="9952" y="18916"/>
                </a:lnTo>
                <a:arcTo wR="21600" hR="20153" stAng="-5544679" swAng="-1760277"/>
                <a:lnTo>
                  <a:pt x="2700" y="12271"/>
                </a:lnTo>
                <a:close/>
              </a:path>
              <a:path fill="none" w="21600" h="21600">
                <a:moveTo>
                  <a:pt x="9952" y="16216"/>
                </a:moveTo>
                <a:arcTo wR="21600" hR="20153" stAng="-5544679" swAng="-462485"/>
                <a:lnTo>
                  <a:pt x="9952" y="18916"/>
                </a:lnTo>
              </a:path>
              <a:path fill="none" w="21600" h="21600">
                <a:moveTo>
                  <a:pt x="11648" y="16216"/>
                </a:moveTo>
                <a:arcTo wR="21600" hR="20153" stAng="-5255321" swAng="462485"/>
                <a:lnTo>
                  <a:pt x="11648" y="18916"/>
                </a:lnTo>
              </a:path>
              <a:path fill="none" w="21600" h="21600">
                <a:moveTo>
                  <a:pt x="7252" y="2974"/>
                </a:moveTo>
                <a:lnTo>
                  <a:pt x="7252" y="16474"/>
                </a:lnTo>
              </a:path>
              <a:path fill="none" w="21600" h="21600">
                <a:moveTo>
                  <a:pt x="14348" y="2974"/>
                </a:moveTo>
                <a:lnTo>
                  <a:pt x="14348" y="16474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6084720" y="2205000"/>
            <a:ext cx="64800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6227640" y="2205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1"/>
          <p:cNvSpPr/>
          <p:nvPr/>
        </p:nvSpPr>
        <p:spPr>
          <a:xfrm rot="20047800">
            <a:off x="1763280" y="2852280"/>
            <a:ext cx="576360" cy="7192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3"/>
          <p:cNvSpPr/>
          <p:nvPr/>
        </p:nvSpPr>
        <p:spPr>
          <a:xfrm rot="15012000">
            <a:off x="1763640" y="1844640"/>
            <a:ext cx="576000" cy="718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1908000" y="19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5"/>
          <p:cNvSpPr/>
          <p:nvPr/>
        </p:nvSpPr>
        <p:spPr>
          <a:xfrm rot="20047800">
            <a:off x="826920" y="1773000"/>
            <a:ext cx="576360" cy="718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6"/>
          <p:cNvSpPr/>
          <p:nvPr/>
        </p:nvSpPr>
        <p:spPr>
          <a:xfrm rot="20601600">
            <a:off x="971640" y="1844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8"/>
          <p:cNvSpPr/>
          <p:nvPr/>
        </p:nvSpPr>
        <p:spPr>
          <a:xfrm rot="2554200">
            <a:off x="684000" y="2708280"/>
            <a:ext cx="576000" cy="72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755640" y="2781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0"/>
          <p:cNvSpPr/>
          <p:nvPr/>
        </p:nvSpPr>
        <p:spPr>
          <a:xfrm>
            <a:off x="5292720" y="2349360"/>
            <a:ext cx="43344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5292720" y="23493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ff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2"/>
          <p:cNvSpPr/>
          <p:nvPr/>
        </p:nvSpPr>
        <p:spPr>
          <a:xfrm>
            <a:off x="7093080" y="2349360"/>
            <a:ext cx="43308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7093080" y="2349360"/>
            <a:ext cx="4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66"/>
                </a:solidFill>
                <a:latin typeface="Times New Roman"/>
              </a:rPr>
              <a:t>Scrie toate numerele naturale de 3 cifre ce se pot forma cu ajutorul cifrelor de mai su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5"/>
          <p:cNvSpPr/>
          <p:nvPr/>
        </p:nvSpPr>
        <p:spPr>
          <a:xfrm>
            <a:off x="179280" y="3789360"/>
            <a:ext cx="41767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6"/>
          <p:cNvSpPr/>
          <p:nvPr/>
        </p:nvSpPr>
        <p:spPr>
          <a:xfrm>
            <a:off x="4788000" y="3789360"/>
            <a:ext cx="388764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7189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66"/>
                </a:solidFill>
                <a:latin typeface="Times New Roman"/>
              </a:rPr>
              <a:t>Găseşte cifrele care lipsesc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50920" y="119700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84360" y="119700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1116000" y="1197000"/>
            <a:ext cx="431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99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763640" y="981000"/>
            <a:ext cx="71294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ff"/>
                </a:solidFill>
                <a:latin typeface="Times New Roman"/>
              </a:rPr>
              <a:t>Cifra zecilor este cu 3 mai mare decât cifra unităţilor, iar cifra sutelor este suma zecilor şi unităţi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250920" y="1916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684360" y="1916280"/>
            <a:ext cx="431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116000" y="1916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1763640" y="1773360"/>
            <a:ext cx="7129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ifra unităţilor este cu 3 mai mică decât cifra zecilor, iar cifra sutelor este cu 7 mai mare decât cifra unităţi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250920" y="2708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684360" y="2708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1116000" y="2708280"/>
            <a:ext cx="43164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1763640" y="2565360"/>
            <a:ext cx="69120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66ff"/>
                </a:solidFill>
                <a:latin typeface="Times New Roman"/>
              </a:rPr>
              <a:t>Cifra zecilor este cu 2 mai mare decât cifra sutelor, iar cifra unităţilor este identică cu cifra sute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324000" y="3933720"/>
            <a:ext cx="8496000" cy="2113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cc0066"/>
                </a:solidFill>
                <a:latin typeface="Times New Roman"/>
              </a:rPr>
              <a:t>Scrie cel mai mare număr de 3 cifre care îndeplineşte condiţiile: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 a) este mai mic decât 750;                                                                b) are suma cifrelor 20;                                                                      c) cifra zecilor este cel mai mare număr de o cifr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Răspu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1547640" y="2205000"/>
            <a:ext cx="2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1547640" y="299736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25"/>
          <p:cNvSpPr/>
          <p:nvPr/>
        </p:nvSpPr>
        <p:spPr>
          <a:xfrm>
            <a:off x="1547640" y="141300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731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0000"/>
                </a:solidFill>
                <a:latin typeface="Times New Roman"/>
              </a:rPr>
              <a:t>Descompune numerele date în sute , zeci şi unităţ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971640" y="1197000"/>
            <a:ext cx="1512720" cy="91440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/>
          <p:cNvSpPr/>
          <p:nvPr/>
        </p:nvSpPr>
        <p:spPr>
          <a:xfrm rot="11066400">
            <a:off x="1042200" y="2133360"/>
            <a:ext cx="1368360" cy="9381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8"/>
          <p:cNvSpPr/>
          <p:nvPr/>
        </p:nvSpPr>
        <p:spPr>
          <a:xfrm rot="16200000">
            <a:off x="473040" y="1622160"/>
            <a:ext cx="1335240" cy="105876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9"/>
          <p:cNvSpPr/>
          <p:nvPr/>
        </p:nvSpPr>
        <p:spPr>
          <a:xfrm rot="5905200">
            <a:off x="1629720" y="1617840"/>
            <a:ext cx="1407960" cy="998280"/>
          </a:xfrm>
          <a:prstGeom prst="pi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1403280" y="1844640"/>
            <a:ext cx="64764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332000" y="134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ff"/>
                </a:solidFill>
                <a:latin typeface="Times New Roman"/>
              </a:rPr>
              <a:t>7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979640" y="1844640"/>
            <a:ext cx="88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ff"/>
                </a:solidFill>
                <a:latin typeface="Times New Roman"/>
              </a:rPr>
              <a:t>3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 rot="11363400">
            <a:off x="683640" y="1556640"/>
            <a:ext cx="66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ff"/>
                </a:solidFill>
                <a:latin typeface="Times New Roman"/>
              </a:rPr>
              <a:t>2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332000" y="2421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ccff"/>
                </a:solidFill>
                <a:latin typeface="Times New Roman"/>
              </a:rPr>
              <a:t>1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2987640" y="981000"/>
            <a:ext cx="417672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2987640" y="1628640"/>
            <a:ext cx="4176720" cy="57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987640" y="2276640"/>
            <a:ext cx="4176720" cy="579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2987640" y="2924280"/>
            <a:ext cx="4176720" cy="579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250920" y="3645000"/>
            <a:ext cx="8713800" cy="1503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Scrieţi toate numerele naturale de la 0 la 100 care au cifra zecilor egală cu dublul cifrei unităţilor:</a:t>
            </a: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250920" y="5300640"/>
            <a:ext cx="856908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33cc"/>
                </a:solidFill>
                <a:latin typeface="Times New Roman"/>
              </a:rPr>
              <a:t>Câte numere de 3 cifre identice există?                     Răsp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1125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Subliniază numărul mai mare din fiecare pereche de num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39640" y="1052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 u="sng">
                <a:solidFill>
                  <a:srgbClr val="cc00ff"/>
                </a:solidFill>
                <a:uFillTx/>
                <a:latin typeface="Times New Roman"/>
              </a:rPr>
              <a:t>525</a:t>
            </a: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 şi 5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484360" y="1052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747 şi 75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4427640" y="1052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854 şi 8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443640" y="1052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911 şi 8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468360" y="1700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234 şi 2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556000" y="17002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98 şi 1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4427640" y="1700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303 şi 8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372360" y="1700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ff"/>
                </a:solidFill>
                <a:latin typeface="Times New Roman"/>
              </a:rPr>
              <a:t>170 şi 1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79280" y="2421000"/>
            <a:ext cx="8713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Times New Roman"/>
              </a:rPr>
              <a:t>Rotunjeşte la zeci numere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0" y="306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60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684360" y="3357720"/>
            <a:ext cx="43164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116000" y="3068640"/>
            <a:ext cx="71928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908000" y="30686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7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2556000" y="3357720"/>
            <a:ext cx="43344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2987640" y="3068640"/>
            <a:ext cx="72072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24"/>
          <p:cNvSpPr/>
          <p:nvPr/>
        </p:nvSpPr>
        <p:spPr>
          <a:xfrm>
            <a:off x="3708360" y="30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2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4284720" y="3357720"/>
            <a:ext cx="43164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716360" y="3068640"/>
            <a:ext cx="71928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7236000" y="306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86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7885080" y="3357720"/>
            <a:ext cx="36036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8244000" y="2997360"/>
            <a:ext cx="72072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508720" y="306864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4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1"/>
          <p:cNvSpPr/>
          <p:nvPr/>
        </p:nvSpPr>
        <p:spPr>
          <a:xfrm>
            <a:off x="6156360" y="3357720"/>
            <a:ext cx="360360" cy="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6516720" y="3141720"/>
            <a:ext cx="72072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250920" y="3860640"/>
            <a:ext cx="86421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0000"/>
                </a:solidFill>
                <a:latin typeface="Times New Roman"/>
              </a:rPr>
              <a:t>Scrieţi vecinii numerel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324000" y="4653000"/>
            <a:ext cx="7207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3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1187280" y="4653000"/>
            <a:ext cx="72072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2050920" y="4653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3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3419640" y="4653000"/>
            <a:ext cx="7189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1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4284720" y="4653000"/>
            <a:ext cx="71892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5148360" y="4653000"/>
            <a:ext cx="7189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2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0"/>
          <p:cNvSpPr/>
          <p:nvPr/>
        </p:nvSpPr>
        <p:spPr>
          <a:xfrm>
            <a:off x="8172360" y="4653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7308720" y="4653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6443640" y="4653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99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324000" y="5445000"/>
            <a:ext cx="71892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4"/>
          <p:cNvSpPr/>
          <p:nvPr/>
        </p:nvSpPr>
        <p:spPr>
          <a:xfrm>
            <a:off x="3348000" y="5445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4211640" y="5445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77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6"/>
          <p:cNvSpPr/>
          <p:nvPr/>
        </p:nvSpPr>
        <p:spPr>
          <a:xfrm>
            <a:off x="5076720" y="5445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7"/>
          <p:cNvSpPr/>
          <p:nvPr/>
        </p:nvSpPr>
        <p:spPr>
          <a:xfrm>
            <a:off x="6372360" y="5445000"/>
            <a:ext cx="71892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8"/>
          <p:cNvSpPr/>
          <p:nvPr/>
        </p:nvSpPr>
        <p:spPr>
          <a:xfrm>
            <a:off x="7308720" y="5445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9"/>
          <p:cNvSpPr/>
          <p:nvPr/>
        </p:nvSpPr>
        <p:spPr>
          <a:xfrm>
            <a:off x="8172360" y="5445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0"/>
          <p:cNvSpPr/>
          <p:nvPr/>
        </p:nvSpPr>
        <p:spPr>
          <a:xfrm>
            <a:off x="1979640" y="5445000"/>
            <a:ext cx="719280" cy="519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1"/>
          <p:cNvSpPr/>
          <p:nvPr/>
        </p:nvSpPr>
        <p:spPr>
          <a:xfrm>
            <a:off x="1116000" y="5445000"/>
            <a:ext cx="719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5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136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66"/>
                </a:solidFill>
                <a:latin typeface="Times New Roman"/>
              </a:rPr>
              <a:t>Scrieţi toate numerele naturale mai mari decât 679 şi cel mult egale cu 683.</a:t>
            </a:r>
            <a:br>
              <a:rPr sz="2800"/>
            </a:br>
            <a:r>
              <a:rPr b="1" lang="ro-RO" sz="2800" spc="-1" strike="noStrike">
                <a:solidFill>
                  <a:srgbClr val="ff00ff"/>
                </a:solidFill>
                <a:latin typeface="Times New Roman"/>
              </a:rPr>
              <a:t>Răsp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50920" y="1773360"/>
            <a:ext cx="8569080" cy="116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66ff"/>
                </a:solidFill>
                <a:latin typeface="Times New Roman"/>
              </a:rPr>
              <a:t>Care sunt următoarele 3 num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39528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68360" y="22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484360" y="227664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1"/>
          <p:cNvSpPr/>
          <p:nvPr/>
        </p:nvSpPr>
        <p:spPr>
          <a:xfrm>
            <a:off x="140328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2"/>
          <p:cNvSpPr/>
          <p:nvPr/>
        </p:nvSpPr>
        <p:spPr>
          <a:xfrm>
            <a:off x="241128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356400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4"/>
          <p:cNvSpPr/>
          <p:nvPr/>
        </p:nvSpPr>
        <p:spPr>
          <a:xfrm>
            <a:off x="457200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5580000" y="2276640"/>
            <a:ext cx="914400" cy="576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2484360" y="2276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250920" y="3357720"/>
            <a:ext cx="8642160" cy="8254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6600cc"/>
                </a:solidFill>
                <a:latin typeface="Times New Roman"/>
              </a:rPr>
              <a:t>Scrie numerele care lipsesc în locurile în locurile marcate pe ax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1979640" y="3860640"/>
            <a:ext cx="28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9"/>
          <p:cNvSpPr/>
          <p:nvPr/>
        </p:nvSpPr>
        <p:spPr>
          <a:xfrm flipV="1">
            <a:off x="324000" y="4220640"/>
            <a:ext cx="8569080" cy="73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53964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31"/>
          <p:cNvSpPr/>
          <p:nvPr/>
        </p:nvSpPr>
        <p:spPr>
          <a:xfrm>
            <a:off x="133200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32"/>
          <p:cNvSpPr/>
          <p:nvPr/>
        </p:nvSpPr>
        <p:spPr>
          <a:xfrm>
            <a:off x="212400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34"/>
          <p:cNvSpPr/>
          <p:nvPr/>
        </p:nvSpPr>
        <p:spPr>
          <a:xfrm>
            <a:off x="298764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35"/>
          <p:cNvSpPr/>
          <p:nvPr/>
        </p:nvSpPr>
        <p:spPr>
          <a:xfrm>
            <a:off x="385128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37"/>
          <p:cNvSpPr/>
          <p:nvPr/>
        </p:nvSpPr>
        <p:spPr>
          <a:xfrm>
            <a:off x="464328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38"/>
          <p:cNvSpPr/>
          <p:nvPr/>
        </p:nvSpPr>
        <p:spPr>
          <a:xfrm>
            <a:off x="543564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40"/>
          <p:cNvSpPr/>
          <p:nvPr/>
        </p:nvSpPr>
        <p:spPr>
          <a:xfrm>
            <a:off x="845964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41"/>
          <p:cNvSpPr/>
          <p:nvPr/>
        </p:nvSpPr>
        <p:spPr>
          <a:xfrm>
            <a:off x="774072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7020000" y="4076640"/>
            <a:ext cx="7128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43"/>
          <p:cNvSpPr/>
          <p:nvPr/>
        </p:nvSpPr>
        <p:spPr>
          <a:xfrm>
            <a:off x="6227640" y="4076640"/>
            <a:ext cx="71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5"/>
          <p:cNvSpPr/>
          <p:nvPr/>
        </p:nvSpPr>
        <p:spPr>
          <a:xfrm flipH="1">
            <a:off x="17856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46"/>
          <p:cNvSpPr/>
          <p:nvPr/>
        </p:nvSpPr>
        <p:spPr>
          <a:xfrm flipH="1">
            <a:off x="1042200" y="443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7"/>
          <p:cNvSpPr/>
          <p:nvPr/>
        </p:nvSpPr>
        <p:spPr>
          <a:xfrm flipH="1">
            <a:off x="2626560" y="4437000"/>
            <a:ext cx="71604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8"/>
          <p:cNvSpPr/>
          <p:nvPr/>
        </p:nvSpPr>
        <p:spPr>
          <a:xfrm flipH="1">
            <a:off x="1763640" y="4437000"/>
            <a:ext cx="71928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9"/>
          <p:cNvSpPr/>
          <p:nvPr/>
        </p:nvSpPr>
        <p:spPr>
          <a:xfrm>
            <a:off x="3492360" y="4437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0"/>
          <p:cNvSpPr/>
          <p:nvPr/>
        </p:nvSpPr>
        <p:spPr>
          <a:xfrm flipH="1">
            <a:off x="428472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1"/>
          <p:cNvSpPr/>
          <p:nvPr/>
        </p:nvSpPr>
        <p:spPr>
          <a:xfrm flipH="1">
            <a:off x="5076720" y="443700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2"/>
          <p:cNvSpPr/>
          <p:nvPr/>
        </p:nvSpPr>
        <p:spPr>
          <a:xfrm flipH="1">
            <a:off x="5867280" y="443700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3"/>
          <p:cNvSpPr/>
          <p:nvPr/>
        </p:nvSpPr>
        <p:spPr>
          <a:xfrm flipH="1">
            <a:off x="6659640" y="443700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4"/>
          <p:cNvSpPr/>
          <p:nvPr/>
        </p:nvSpPr>
        <p:spPr>
          <a:xfrm flipH="1">
            <a:off x="7451640" y="44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25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5"/>
          <p:cNvSpPr/>
          <p:nvPr/>
        </p:nvSpPr>
        <p:spPr>
          <a:xfrm flipH="1">
            <a:off x="8101080" y="4437000"/>
            <a:ext cx="720720" cy="495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6"/>
          <p:cNvSpPr/>
          <p:nvPr/>
        </p:nvSpPr>
        <p:spPr>
          <a:xfrm flipV="1">
            <a:off x="250920" y="5589720"/>
            <a:ext cx="8713800" cy="727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57"/>
          <p:cNvSpPr/>
          <p:nvPr/>
        </p:nvSpPr>
        <p:spPr>
          <a:xfrm>
            <a:off x="46836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58"/>
          <p:cNvSpPr/>
          <p:nvPr/>
        </p:nvSpPr>
        <p:spPr>
          <a:xfrm>
            <a:off x="133200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59"/>
          <p:cNvSpPr/>
          <p:nvPr/>
        </p:nvSpPr>
        <p:spPr>
          <a:xfrm>
            <a:off x="219564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60"/>
          <p:cNvSpPr/>
          <p:nvPr/>
        </p:nvSpPr>
        <p:spPr>
          <a:xfrm>
            <a:off x="305928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61"/>
          <p:cNvSpPr/>
          <p:nvPr/>
        </p:nvSpPr>
        <p:spPr>
          <a:xfrm>
            <a:off x="392436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62"/>
          <p:cNvSpPr/>
          <p:nvPr/>
        </p:nvSpPr>
        <p:spPr>
          <a:xfrm>
            <a:off x="478800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3"/>
          <p:cNvSpPr/>
          <p:nvPr/>
        </p:nvSpPr>
        <p:spPr>
          <a:xfrm>
            <a:off x="5724360" y="5445000"/>
            <a:ext cx="7164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64"/>
          <p:cNvSpPr/>
          <p:nvPr/>
        </p:nvSpPr>
        <p:spPr>
          <a:xfrm>
            <a:off x="6588000" y="5445000"/>
            <a:ext cx="7164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66"/>
          <p:cNvSpPr/>
          <p:nvPr/>
        </p:nvSpPr>
        <p:spPr>
          <a:xfrm>
            <a:off x="7524720" y="5445000"/>
            <a:ext cx="7164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67"/>
          <p:cNvSpPr/>
          <p:nvPr/>
        </p:nvSpPr>
        <p:spPr>
          <a:xfrm>
            <a:off x="8388360" y="5445000"/>
            <a:ext cx="712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8"/>
          <p:cNvSpPr/>
          <p:nvPr/>
        </p:nvSpPr>
        <p:spPr>
          <a:xfrm>
            <a:off x="179280" y="5950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3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9"/>
          <p:cNvSpPr/>
          <p:nvPr/>
        </p:nvSpPr>
        <p:spPr>
          <a:xfrm>
            <a:off x="971640" y="595008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3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0"/>
          <p:cNvSpPr/>
          <p:nvPr/>
        </p:nvSpPr>
        <p:spPr>
          <a:xfrm flipH="1">
            <a:off x="1834560" y="5877000"/>
            <a:ext cx="71892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71"/>
          <p:cNvSpPr/>
          <p:nvPr/>
        </p:nvSpPr>
        <p:spPr>
          <a:xfrm flipH="1">
            <a:off x="2700360" y="5877000"/>
            <a:ext cx="71928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72"/>
          <p:cNvSpPr/>
          <p:nvPr/>
        </p:nvSpPr>
        <p:spPr>
          <a:xfrm flipH="1">
            <a:off x="3563280" y="5877000"/>
            <a:ext cx="71892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3"/>
          <p:cNvSpPr/>
          <p:nvPr/>
        </p:nvSpPr>
        <p:spPr>
          <a:xfrm flipH="1">
            <a:off x="4429080" y="587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3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4"/>
          <p:cNvSpPr/>
          <p:nvPr/>
        </p:nvSpPr>
        <p:spPr>
          <a:xfrm flipH="1">
            <a:off x="5364000" y="5877000"/>
            <a:ext cx="71928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5"/>
          <p:cNvSpPr/>
          <p:nvPr/>
        </p:nvSpPr>
        <p:spPr>
          <a:xfrm flipH="1">
            <a:off x="6227640" y="5877000"/>
            <a:ext cx="71928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76"/>
          <p:cNvSpPr/>
          <p:nvPr/>
        </p:nvSpPr>
        <p:spPr>
          <a:xfrm flipH="1">
            <a:off x="7165800" y="5877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00"/>
                </a:solidFill>
                <a:latin typeface="Times New Roman"/>
              </a:rPr>
              <a:t>4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77"/>
          <p:cNvSpPr/>
          <p:nvPr/>
        </p:nvSpPr>
        <p:spPr>
          <a:xfrm flipH="1">
            <a:off x="8028000" y="5877000"/>
            <a:ext cx="719280" cy="495360"/>
          </a:xfrm>
          <a:prstGeom prst="rect">
            <a:avLst/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395280" y="0"/>
            <a:ext cx="3529080" cy="3456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2"/>
          <a:stretch/>
        </p:blipFill>
        <p:spPr>
          <a:xfrm>
            <a:off x="179280" y="3544920"/>
            <a:ext cx="3961080" cy="33130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 rot="3874800">
            <a:off x="715680" y="659160"/>
            <a:ext cx="7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35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1"/>
          <p:cNvSpPr/>
          <p:nvPr/>
        </p:nvSpPr>
        <p:spPr>
          <a:xfrm rot="19425000">
            <a:off x="2124360" y="18864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7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843280" y="134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1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 rot="2958600">
            <a:off x="1635840" y="2817000"/>
            <a:ext cx="11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6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 rot="19709400">
            <a:off x="468720" y="1341000"/>
            <a:ext cx="13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ffff"/>
                </a:solidFill>
                <a:latin typeface="Times New Roman"/>
              </a:rPr>
              <a:t>9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995640" y="189000"/>
            <a:ext cx="4826160" cy="18104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ffff"/>
                </a:solidFill>
                <a:latin typeface="Times New Roman"/>
              </a:rPr>
              <a:t>Scrie răsturnatul fiecărui număr de pe flo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211640" y="3573360"/>
            <a:ext cx="4681440" cy="1810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0000"/>
                </a:solidFill>
                <a:latin typeface="Times New Roman"/>
              </a:rPr>
              <a:t>Scrie succesorul fiecărui număr de pe flo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 rot="20925600">
            <a:off x="2268360" y="37159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5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3059280" y="4869000"/>
            <a:ext cx="71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 rot="2270400">
            <a:off x="610560" y="40762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6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 rot="20539800">
            <a:off x="395640" y="4941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4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1"/>
          <p:cNvSpPr/>
          <p:nvPr/>
        </p:nvSpPr>
        <p:spPr>
          <a:xfrm rot="3595200">
            <a:off x="1563840" y="6067440"/>
            <a:ext cx="106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00"/>
                </a:solidFill>
                <a:latin typeface="Times New Roman"/>
              </a:rPr>
              <a:t>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3"/>
          <p:cNvSpPr/>
          <p:nvPr/>
        </p:nvSpPr>
        <p:spPr>
          <a:xfrm flipH="1">
            <a:off x="1332000" y="2133720"/>
            <a:ext cx="576000" cy="71892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395280" y="2781360"/>
            <a:ext cx="1008000" cy="64764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6"/>
          <p:cNvSpPr/>
          <p:nvPr/>
        </p:nvSpPr>
        <p:spPr>
          <a:xfrm>
            <a:off x="1835280" y="1484280"/>
            <a:ext cx="431640" cy="358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28"/>
          <p:cNvSpPr/>
          <p:nvPr/>
        </p:nvSpPr>
        <p:spPr>
          <a:xfrm>
            <a:off x="1619280" y="4724280"/>
            <a:ext cx="914400" cy="7923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1763640" y="4869000"/>
            <a:ext cx="649440" cy="57600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30"/>
          <p:cNvSpPr/>
          <p:nvPr/>
        </p:nvSpPr>
        <p:spPr>
          <a:xfrm flipH="1">
            <a:off x="826920" y="5661000"/>
            <a:ext cx="936720" cy="119700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1763640" y="1341360"/>
            <a:ext cx="647640" cy="57636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1908000" y="1484280"/>
            <a:ext cx="360360" cy="2890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350200" cy="1008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00ff"/>
                </a:solidFill>
                <a:latin typeface="Times New Roman"/>
              </a:rPr>
              <a:t>Uneşte fiecare număr dat cu numărul format numai din sute de care este cel mai apropi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3851280" y="126828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851280" y="198900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851280" y="486900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851280" y="270828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851280" y="342900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3851280" y="414972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3851280" y="5661000"/>
            <a:ext cx="792000" cy="520560"/>
          </a:xfrm>
          <a:prstGeom prst="rect">
            <a:avLst/>
          </a:prstGeom>
          <a:solidFill>
            <a:srgbClr val="ccffff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395280" y="126828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5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6443640" y="126828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7164360" y="364500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755640" y="407664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324000" y="314172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611280" y="530064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4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7164360" y="537372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7308720" y="458136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7667640" y="2781360"/>
            <a:ext cx="79200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6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7308720" y="206064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3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900000" y="2276640"/>
            <a:ext cx="792360" cy="5205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Times New Roman"/>
              </a:rPr>
              <a:t>1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23"/>
          <p:cNvSpPr/>
          <p:nvPr/>
        </p:nvSpPr>
        <p:spPr>
          <a:xfrm>
            <a:off x="1187280" y="1413000"/>
            <a:ext cx="2592720" cy="2087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usuioc Ioan</dc:creator>
  <dc:description/>
  <dc:language>en-US</dc:language>
  <cp:lastModifiedBy>asd</cp:lastModifiedBy>
  <dcterms:modified xsi:type="dcterms:W3CDTF">2009-04-10T06:13:17Z</dcterms:modified>
  <cp:revision>54</cp:revision>
  <dc:subject/>
  <dc:title>Numere naturale mai mari dec\t 1000 (recapitulare)</dc:title>
</cp:coreProperties>
</file>